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11400" cy="45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935160" y="0"/>
            <a:ext cx="3011400" cy="45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6400" y="695160"/>
            <a:ext cx="4614840" cy="346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5200" y="4384440"/>
            <a:ext cx="5095800" cy="4152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774280"/>
            <a:ext cx="3011400" cy="45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935160" y="8774280"/>
            <a:ext cx="3011400" cy="45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896592-E460-47E5-B348-F6D9F4C43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66760" y="695160"/>
            <a:ext cx="4614840" cy="34610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25200" y="4384440"/>
            <a:ext cx="5551560" cy="4152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criterion fo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d method of development and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SCA/SCE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y of a longer paper, available upon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7D11-46D5-4188-A082-E9F70085A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24D1-6138-4E37-ABAF-111AC3CEE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3E7A-AFF3-4F20-A867-B1338D43B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E556-574B-439C-B80E-88E537716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921D-B9EB-4F2D-BABD-413D5027F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4F1B-848D-4A5B-8F7F-54FE88F31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CC73-478F-4AF0-9D72-0AB64F32F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4EA1-2FD8-4B5E-A76F-2B2BF7A05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7657-1EE2-4EB9-8247-9BB15F02F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EC57-4F80-4213-AE21-BC66F69E1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576E-99E0-46E5-96CC-696C131AD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CEA0-2ABD-4740-979E-FC97DF600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ercury%20template%20final%20body%20rev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343400" y="66290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A580-3995-4DF9-A48A-FAFA2BCB22C4}" type="slidenum">
              <a:rPr b="0" lang="en-US" sz="9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Mercury%20Logo%20with%20tag%20line%20for%20Powerpoint" descr=""/>
          <p:cNvPicPr/>
          <p:nvPr/>
        </p:nvPicPr>
        <p:blipFill>
          <a:blip r:embed="rId3"/>
          <a:stretch/>
        </p:blipFill>
        <p:spPr>
          <a:xfrm>
            <a:off x="76320" y="152280"/>
            <a:ext cx="1523880" cy="5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77680" y="6694560"/>
            <a:ext cx="203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inal%20template%20graphic%204_17_00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67820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114320" y="6643800"/>
            <a:ext cx="203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0120" y="6299280"/>
            <a:ext cx="509436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2720" y="2952360"/>
            <a:ext cx="711540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CA Viewpoin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04680" y="4952520"/>
            <a:ext cx="676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Jim Kul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CA Implementation Viewpoints for Interoperability and Portability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84120" y="1528560"/>
            <a:ext cx="4048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Client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— software that requests SCA applications to be run and interacts with them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Waveform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— software that assembles and configures SCA components into a useful structure, in SDR-speak, called a “waveform”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Component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 — software that performs some processing function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System bootstrap/management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— software that initiates a pre-configured SCA infrastructure with various hardware devices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99"/>
                </a:solidFill>
                <a:uFillTx/>
                <a:latin typeface="Arial"/>
                <a:ea typeface="Times New Roman"/>
              </a:rPr>
              <a:t>Device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 (Driver/Proxy) software that owns and uses hardware devices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384600" y="1399680"/>
            <a:ext cx="2685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Knowledge required to play this role (write this type of code), to use the SCA system in this way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Basic use case or scenario for playing the rol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Core Framework interfaces used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Metadata formats us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"/>
              </a:rPr>
              <a:t>Testing issues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11920" y="865080"/>
            <a:ext cx="37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ypes of software written to us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an SCA-compliant environment:</a:t>
            </a:r>
            <a:r>
              <a:rPr b="1" lang="en-US" sz="14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46520" y="1017720"/>
            <a:ext cx="26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For each we describ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84520" y="2505240"/>
            <a:ext cx="393480" cy="1380960"/>
          </a:xfrm>
          <a:custGeom>
            <a:avLst/>
            <a:gdLst>
              <a:gd name="textAreaLeft" fmla="*/ 251280 w 393480"/>
              <a:gd name="textAreaRight" fmla="*/ 393840 w 393480"/>
              <a:gd name="textAreaTop" fmla="*/ 36000 h 1380960"/>
              <a:gd name="textAreaBottom" fmla="*/ 1344960 h 138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6640" y="5381640"/>
            <a:ext cx="412920" cy="1066680"/>
          </a:xfrm>
          <a:custGeom>
            <a:avLst/>
            <a:gdLst>
              <a:gd name="textAreaLeft" fmla="*/ 263880 w 412920"/>
              <a:gd name="textAreaRight" fmla="*/ 413280 w 412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5720" y="4200480"/>
            <a:ext cx="412920" cy="1066680"/>
          </a:xfrm>
          <a:custGeom>
            <a:avLst/>
            <a:gdLst>
              <a:gd name="textAreaLeft" fmla="*/ 263880 w 412920"/>
              <a:gd name="textAreaRight" fmla="*/ 413280 w 412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41400" y="1533600"/>
            <a:ext cx="308160" cy="857160"/>
          </a:xfrm>
          <a:custGeom>
            <a:avLst/>
            <a:gdLst>
              <a:gd name="textAreaLeft" fmla="*/ 196920 w 308160"/>
              <a:gd name="textAreaRight" fmla="*/ 308520 w 308160"/>
              <a:gd name="textAreaTop" fmla="*/ 22320 h 857160"/>
              <a:gd name="textAreaBottom" fmla="*/ 83484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" y="1779480"/>
            <a:ext cx="128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No viewpoin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But UI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5520" y="4456080"/>
            <a:ext cx="138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CF or Platfor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Develop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7320" y="5646600"/>
            <a:ext cx="10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Platfor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Develop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8280" y="29224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Wavefor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Develop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9600" y="950760"/>
            <a:ext cx="109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SCA Dev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Guid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Viewpoin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657440"/>
            <a:ext cx="11811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9317-CC42-4024-A944-75AF749E65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Roadmap to Implement SCA Partitioned by Viewpoint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803240" y="1251000"/>
          <a:ext cx="7188480" cy="5264280"/>
        </p:xfrm>
        <a:graphic>
          <a:graphicData uri="http://schemas.openxmlformats.org/drawingml/2006/table">
            <a:tbl>
              <a:tblPr/>
              <a:tblGrid>
                <a:gridCol w="1405440"/>
                <a:gridCol w="1148760"/>
                <a:gridCol w="1807920"/>
                <a:gridCol w="1355400"/>
                <a:gridCol w="147096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pplication name, port names and interfaces, metadata file location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vailable components, their interfaces and descriptor file location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CA APIs and API Building blocks.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SIX &amp; SCA services &amp; event channel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Name of DMD &amp; DMD files to describe how to run bootstrap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omponent writer’s info + CF </a:t>
                      </a: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interfaces for devices to be uniformly managed/ monitore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ind SCA server (via naming service), use CF to run application and use its external ports.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SAD is parsed and acted on by Domain Manager and/or Application Factory</a:t>
                      </a: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App.Factory instantiates, configures &amp; connects components. Apps route client requests for retrieving refs to external ports to components.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Parse DMD &amp; start described software that starts a DomainMgr. Partially parse  DCD to start DeviceMgrs</a:t>
                      </a: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Devices are used/created according to the DCD processed by the DeviceMgr, creating device at startup time</a:t>
                      </a: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omainManager,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pplicationFactory,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pplication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rt, LifeCycle, TestableObject, Port Supplier, PropertySet, Resource, Resource Factory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omainMgr., DeviceMgr.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eviceMgr (used); Device, ExecutableDevice &amp; LoadableDevice (implemented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reate SAD, reference SPD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DL, SCD &amp; SPD file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SPD, SCD &amp; DMD files.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DCD refs SPD for the device &amp; DPD for the associated HW device</a:t>
                      </a: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st of skeleton apps that export appropriate interfaces &amp; external port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pps can be built with non-compliant component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Test components independent of actual SCA applications, accessing SCA-limited OE.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Use log and event service to test exposure to key interfaces. Test SW launch.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  <a:ea typeface="Times New Roman"/>
                        </a:rPr>
                        <a:t>A standalone device test or full apps consisting of components deployed on the device</a:t>
                      </a:r>
                      <a:r>
                        <a:rPr b="0" lang="en-US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963440" y="922320"/>
            <a:ext cx="61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 Black"/>
              </a:rPr>
              <a:t>            </a:t>
            </a: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Client         Waveform     Component      System boot/mgt   Devic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6080" y="1643040"/>
            <a:ext cx="11149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Knowledg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Require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Use-cas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C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Interfac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Use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Meta-da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Forma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Use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Test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Black"/>
              </a:rPr>
              <a:t>Issu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75680" y="90324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 Black"/>
              </a:rPr>
              <a:t>Viewpoint: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FC5F-7FA5-43C3-8662-8D432109DC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00:11Z</dcterms:created>
  <dc:creator>jpoe</dc:creator>
  <dc:description/>
  <dc:language>en-US</dc:language>
  <cp:lastModifiedBy>jesmith</cp:lastModifiedBy>
  <cp:lastPrinted>2001-04-18T18:28:43Z</cp:lastPrinted>
  <dcterms:modified xsi:type="dcterms:W3CDTF">2003-03-26T16:07:04Z</dcterms:modified>
  <cp:revision>260</cp:revision>
  <dc:subject/>
  <dc:title>No Slide Title</dc:title>
</cp:coreProperties>
</file>